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B27B6-1DB5-49B7-A39F-CADA724F3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EB98F-5DE0-46BD-83B8-6D2DB8B79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463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54000" y="4565160"/>
            <a:ext cx="54072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274680"/>
            <a:ext cx="7467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a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pic>
        <p:nvPicPr>
          <p:cNvPr id="2" name="Picture 5" descr="tca_logo_300px"/>
          <p:cNvPicPr/>
          <p:nvPr/>
        </p:nvPicPr>
        <p:blipFill>
          <a:blip r:embed="rId2"/>
          <a:stretch/>
        </p:blipFill>
        <p:spPr>
          <a:xfrm>
            <a:off x="119160" y="119160"/>
            <a:ext cx="9396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Text Box 6"/>
          <p:cNvSpPr/>
          <p:nvPr/>
        </p:nvSpPr>
        <p:spPr>
          <a:xfrm>
            <a:off x="8001000" y="6583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T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tcaprep.com/" TargetMode="External"/><Relationship Id="rId2" Type="http://schemas.openxmlformats.org/officeDocument/2006/relationships/hyperlink" Target="mailto:customercare@tcaprep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629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c540"/>
                </a:solidFill>
                <a:latin typeface="Arial"/>
              </a:rPr>
              <a:t>Understanding The SAT </a:t>
            </a:r>
            <a:br>
              <a:rPr sz="4400"/>
            </a:br>
            <a:r>
              <a:rPr b="0" lang="en-US" sz="4400" spc="-1" strike="noStrike">
                <a:solidFill>
                  <a:srgbClr val="8cc540"/>
                </a:solidFill>
                <a:latin typeface="Arial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8cc540"/>
                </a:solidFill>
                <a:latin typeface="Arial"/>
              </a:rPr>
              <a:t>Test-Taking Strategies</a:t>
            </a:r>
            <a:endParaRPr b="0" lang="en-US" sz="4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190080"/>
            <a:ext cx="734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c540"/>
                </a:solidFill>
                <a:latin typeface="Arial Black"/>
              </a:rPr>
              <a:t>General SAT </a:t>
            </a:r>
            <a:br>
              <a:rPr sz="4000"/>
            </a:br>
            <a:r>
              <a:rPr b="0" lang="en-US" sz="4000" spc="-1" strike="noStrike">
                <a:solidFill>
                  <a:srgbClr val="8cc540"/>
                </a:solidFill>
                <a:latin typeface="Arial Black"/>
              </a:rPr>
              <a:t>Test-Taking Strategies</a:t>
            </a:r>
            <a:endParaRPr b="0" lang="en-US" sz="40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1200" y="1510920"/>
            <a:ext cx="8902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Set score goal and the steps to achieve it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c540"/>
                </a:solidFill>
                <a:latin typeface="Arial"/>
              </a:rPr>
              <a:t>Know the directions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Think with your pencil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c540"/>
                </a:solidFill>
                <a:latin typeface="Arial"/>
              </a:rPr>
              <a:t>Realize the questions get harder (Difficulty level) 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Know your speed and control it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2475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c540"/>
                </a:solidFill>
                <a:latin typeface="Arial"/>
              </a:rPr>
              <a:t>Answer those questions first that are easiest for you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lvl="1" marL="698400" indent="-268560">
              <a:lnSpc>
                <a:spcPct val="10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write answers on test next to question number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lvl="1" marL="698400" indent="-268560">
              <a:lnSpc>
                <a:spcPct val="10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mark questions you don’t know (x or ?) 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Know when to guess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925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c540"/>
                </a:solidFill>
                <a:latin typeface="Arial"/>
              </a:rPr>
              <a:t>Work the whole time and don’t panic.</a:t>
            </a:r>
            <a:r>
              <a:rPr b="0" lang="en-US" sz="2600" spc="-1" strike="noStrike">
                <a:solidFill>
                  <a:srgbClr val="003a62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22200" indent="0" algn="ctr">
              <a:lnSpc>
                <a:spcPct val="55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62"/>
                </a:solidFill>
                <a:latin typeface="Arial"/>
              </a:rPr>
              <a:t>Remember 1 = 10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384200" y="165240"/>
            <a:ext cx="4905360" cy="64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 Box 3"/>
          <p:cNvSpPr/>
          <p:nvPr/>
        </p:nvSpPr>
        <p:spPr>
          <a:xfrm>
            <a:off x="6172200" y="190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c540"/>
                </a:solidFill>
                <a:latin typeface="Tahoma"/>
              </a:rPr>
              <a:t>Individual Skill Feedback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533520" y="1447920"/>
            <a:ext cx="8533800" cy="2286000"/>
            <a:chOff x="533520" y="1447920"/>
            <a:chExt cx="8533800" cy="2286000"/>
          </a:xfrm>
        </p:grpSpPr>
        <p:pic>
          <p:nvPicPr>
            <p:cNvPr id="77" name="Picture 5" descr=""/>
            <p:cNvPicPr/>
            <p:nvPr/>
          </p:nvPicPr>
          <p:blipFill>
            <a:blip r:embed="rId2"/>
            <a:stretch/>
          </p:blipFill>
          <p:spPr>
            <a:xfrm>
              <a:off x="533520" y="1447920"/>
              <a:ext cx="7924680" cy="1893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8" name="AutoShape 6"/>
            <p:cNvSpPr/>
            <p:nvPr/>
          </p:nvSpPr>
          <p:spPr>
            <a:xfrm>
              <a:off x="6629400" y="3276720"/>
              <a:ext cx="2437920" cy="457200"/>
            </a:xfrm>
            <a:prstGeom prst="wedgeRoundRectCallout">
              <a:avLst>
                <a:gd name="adj1" fmla="val -148305"/>
                <a:gd name="adj2" fmla="val -211111"/>
                <a:gd name="adj3" fmla="val 16667"/>
              </a:avLst>
            </a:prstGeom>
            <a:solidFill>
              <a:srgbClr val="c5e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a62"/>
                  </a:solidFill>
                  <a:latin typeface="Tahoma"/>
                </a:rPr>
                <a:t>Score on a real T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76320" y="1523880"/>
            <a:ext cx="8915400" cy="3612960"/>
            <a:chOff x="76320" y="1523880"/>
            <a:chExt cx="8915400" cy="3612960"/>
          </a:xfrm>
        </p:grpSpPr>
        <p:pic>
          <p:nvPicPr>
            <p:cNvPr id="80" name="Picture 8" descr=""/>
            <p:cNvPicPr/>
            <p:nvPr/>
          </p:nvPicPr>
          <p:blipFill>
            <a:blip r:embed="rId3"/>
            <a:stretch/>
          </p:blipFill>
          <p:spPr>
            <a:xfrm>
              <a:off x="76320" y="1523880"/>
              <a:ext cx="6781680" cy="3612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1" name="AutoShape 9"/>
            <p:cNvSpPr/>
            <p:nvPr/>
          </p:nvSpPr>
          <p:spPr>
            <a:xfrm>
              <a:off x="7010640" y="3885840"/>
              <a:ext cx="1981080" cy="685800"/>
            </a:xfrm>
            <a:prstGeom prst="wedgeRoundRectCallout">
              <a:avLst>
                <a:gd name="adj1" fmla="val -158972"/>
                <a:gd name="adj2" fmla="val -144212"/>
                <a:gd name="adj3" fmla="val 16667"/>
              </a:avLst>
            </a:prstGeom>
            <a:solidFill>
              <a:srgbClr val="c5e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a62"/>
                  </a:solidFill>
                  <a:latin typeface="Tahoma"/>
                </a:rPr>
                <a:t>Focus on weakest 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0"/>
          <p:cNvGrpSpPr/>
          <p:nvPr/>
        </p:nvGrpSpPr>
        <p:grpSpPr>
          <a:xfrm>
            <a:off x="304920" y="3505320"/>
            <a:ext cx="8533800" cy="3166920"/>
            <a:chOff x="304920" y="3505320"/>
            <a:chExt cx="8533800" cy="3166920"/>
          </a:xfrm>
        </p:grpSpPr>
        <p:pic>
          <p:nvPicPr>
            <p:cNvPr id="83" name="Picture 11" descr=""/>
            <p:cNvPicPr/>
            <p:nvPr/>
          </p:nvPicPr>
          <p:blipFill>
            <a:blip r:embed="rId4"/>
            <a:stretch/>
          </p:blipFill>
          <p:spPr>
            <a:xfrm>
              <a:off x="304920" y="3505320"/>
              <a:ext cx="7391160" cy="316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4" name="AutoShape 12"/>
            <p:cNvSpPr/>
            <p:nvPr/>
          </p:nvSpPr>
          <p:spPr>
            <a:xfrm>
              <a:off x="6858000" y="5867280"/>
              <a:ext cx="1980720" cy="685440"/>
            </a:xfrm>
            <a:prstGeom prst="wedgeRoundRectCallout">
              <a:avLst>
                <a:gd name="adj1" fmla="val -194231"/>
                <a:gd name="adj2" fmla="val -206944"/>
                <a:gd name="adj3" fmla="val 16667"/>
              </a:avLst>
            </a:prstGeom>
            <a:solidFill>
              <a:srgbClr val="c5e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a62"/>
                  </a:solidFill>
                  <a:latin typeface="Tahoma"/>
                </a:rPr>
                <a:t>Performance in all are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SENTENCE COMPLETION QUESTION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534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9e00"/>
                </a:solidFill>
                <a:uFillTx/>
                <a:latin typeface="Arial"/>
              </a:rPr>
              <a:t>Student’s Usual Strategy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Plug in answer choices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until they find one they think fit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e00"/>
                </a:solidFill>
                <a:uFillTx/>
                <a:latin typeface="Arial"/>
              </a:rPr>
              <a:t>Preferred Strategy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Use clues to find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the definition within the sentence &amp; anticipate the answer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YPES OF </a:t>
            </a:r>
            <a:br>
              <a:rPr sz="3200"/>
            </a:b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SENTENCE COMPLETION QUESTION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Definitional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– sentence contains the definition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Contrast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– subordinate clauses change the direction of the sentenc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Cause and Effect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– key word signal a resulting effect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cause, due to, as a result of, in order to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Synonym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– continuation of a matching thought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nce, furthermore, and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What Is The Missing Word?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Find the question within the question…..what is the blank referring to in the sentence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What part of the sentence are you being asked to clarify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is process is essential to finding the key word or phrase that will lead students to the answer.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c54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8cc540"/>
                </a:solidFill>
                <a:latin typeface="Arial"/>
              </a:rPr>
              <a:t>LANDMARKS” </a:t>
            </a:r>
            <a:br>
              <a:rPr sz="3600"/>
            </a:br>
            <a:r>
              <a:rPr b="1" lang="en-US" sz="3200" spc="-1" strike="noStrike">
                <a:solidFill>
                  <a:srgbClr val="8cc540"/>
                </a:solidFill>
                <a:latin typeface="Arial"/>
              </a:rPr>
              <a:t>What question is the blank asking?</a:t>
            </a:r>
            <a:br>
              <a:rPr sz="3200"/>
            </a:b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Punctuation    ,  ;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Contrast Word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Although, however, bu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Similar Word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Since, therefore, and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Sentence Structure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9e00"/>
                </a:solidFill>
                <a:latin typeface="Arial"/>
              </a:rPr>
              <a:t>_____,      _____;     _____is     _____and</a:t>
            </a: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Landmarks” help you find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the definition within the sentence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Fill In The Blank Strategy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Do NOT look at the answers until after you work the sentence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Your task is to find the </a:t>
            </a:r>
            <a:r>
              <a:rPr b="0" i="1" lang="en-US" sz="2400" spc="-1" strike="noStrike" u="sng">
                <a:solidFill>
                  <a:srgbClr val="003a62"/>
                </a:solidFill>
                <a:uFillTx/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in the sentence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Read the sentence looking for “landmarks”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Use the definition to help you to put your </a:t>
            </a:r>
            <a:r>
              <a:rPr b="0" i="1" lang="en-US" sz="2400" spc="-1" strike="noStrike" u="sng">
                <a:solidFill>
                  <a:srgbClr val="003a62"/>
                </a:solidFill>
                <a:uFillTx/>
                <a:latin typeface="Arial"/>
              </a:rPr>
              <a:t>own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word in the blank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Now look at the answer choices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FINDING THE ANSWER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ree things can happen now…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word you put in the blank is one of the answers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A synonym for the word you put in the blank is there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None of the answers match the word you put in the blank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BACKING INTO THE RIGHT ANSWER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If none of the answers match the word you put in the blank…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ry to eliminate answers that you know don’t mean the word you put in the blank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Use prefix and roots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ry to eliminate three answers before guessing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Read the two remaining answers for “sound”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f all else fails, skip the question!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Is the question in the last 1/3 of the Sentence Completion Questions?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SENTENCE COMPLETION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Although I appreciate his romantic dreams,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he is _______, because they are unrealistic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y the strategy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a6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robust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a6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commendable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C) practical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D) remediabl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E) quixotic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2995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c540"/>
                </a:solidFill>
                <a:latin typeface="Arial Black"/>
              </a:rPr>
              <a:t>The SAT Up Close</a:t>
            </a:r>
            <a:endParaRPr b="0" lang="en-US" sz="48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44440" y="1688760"/>
            <a:ext cx="470844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5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a62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5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a62"/>
                </a:solidFill>
                <a:latin typeface="Arial"/>
              </a:rPr>
              <a:t>Format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5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a62"/>
                </a:solidFill>
                <a:latin typeface="Arial"/>
              </a:rPr>
              <a:t>Order of Difficulty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5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a62"/>
                </a:solidFill>
                <a:latin typeface="Arial"/>
              </a:rPr>
              <a:t>Scoring System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WO BLANKS” Ques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Work on one blank at a tim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Use either strategy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Check the answers for that answer position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wo or three of the answer choices may be eliminated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Now switch to the 2</a:t>
            </a:r>
            <a:r>
              <a:rPr b="0" lang="en-US" sz="2800" spc="-1" strike="noStrike" baseline="30000">
                <a:solidFill>
                  <a:srgbClr val="003a62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blank if needed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Make sure you line out answers you’ve eliminated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c540"/>
                </a:solidFill>
                <a:latin typeface="Arial"/>
              </a:rPr>
              <a:t>Positive and Negative Strategy</a:t>
            </a:r>
            <a:br>
              <a:rPr sz="3200"/>
            </a:br>
            <a:r>
              <a:rPr b="0" lang="en-US" sz="2000" spc="-1" strike="noStrike">
                <a:solidFill>
                  <a:srgbClr val="8cc540"/>
                </a:solidFill>
                <a:latin typeface="Arial"/>
              </a:rPr>
              <a:t>Use this if you can’t plug in a word</a:t>
            </a:r>
            <a:endParaRPr b="0" lang="en-US" sz="20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2"/>
                </a:solidFill>
                <a:latin typeface="Arial"/>
              </a:rPr>
              <a:t>Use positive (+) and negative (-) connotations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a62"/>
                </a:solidFill>
                <a:latin typeface="Arial"/>
              </a:rPr>
              <a:t>This strategy can be particularly useful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a62"/>
                </a:solidFill>
                <a:latin typeface="Arial"/>
              </a:rPr>
              <a:t>for questions with two blanks.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Although the British public once _______ Prince Edward VIII, the would-be king who renounced his claim to the throne in order to marry a commoner, recent revelations about the Prince’s Nazi sympathies during World War II have _____ such positive feelings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evered..assuaged  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idiculed..alleviated  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dismissed..enhanced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loved..augmented  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admired..minimized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43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105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0880" y="6400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erican pioneers moved west with tremendous hope, but often only ____ awaited them, given the ____ realities of the new lan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A) excitement..bleak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B) disillusionment..harsh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) success..strenuou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D) surprise..golden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E) failure..abundant</a:t>
            </a:r>
            <a:endParaRPr b="0" lang="en-US" sz="2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3808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00"/>
                </a:solidFill>
                <a:latin typeface="Arial"/>
              </a:rPr>
              <a:t>Try The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80880" y="61722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Critical Reading Passage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What are the two words students always use to describe reading passages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tudents need a strategy to stay focused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tudents must recognize the types of questions being asked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52280" y="5153040"/>
            <a:ext cx="883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member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only reason you’re reading the pas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to answer th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ypes of Reading Passage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ingle Long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Paired Long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ingle Short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Paired Short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46483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Passages range in length from about 100 words (short passag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to about 850 passages (long passag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Passages typically come from social studies, natural scienc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humanities, and literary f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YPES OF QUES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Quick answer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Detail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re thoughtful answer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nferenc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ecific Detail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Primarily in order to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Functions to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8915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ocabulary in context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reat like a sentence Completion problem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c540"/>
                </a:solidFill>
                <a:latin typeface="Arial"/>
              </a:rPr>
              <a:t>On line 36 the word “ameliorate” most nearly mea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in Idea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primary purpose of the passage…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erence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uggests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nferred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mplied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Feel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eems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0320" y="228240"/>
            <a:ext cx="65534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 Black"/>
              </a:rPr>
              <a:t>Purpose of the SAT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6480" y="1755360"/>
            <a:ext cx="7780320" cy="31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a62"/>
                </a:solidFill>
                <a:latin typeface="Arial"/>
              </a:rPr>
              <a:t>College Admissions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-259920">
              <a:spcBef>
                <a:spcPts val="624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a62"/>
                </a:solidFill>
                <a:latin typeface="Arial"/>
              </a:rPr>
              <a:t>provides a “standardized” score to help admission officers make selection decisions</a:t>
            </a:r>
            <a:endParaRPr b="0" lang="en-US" sz="25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2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a62"/>
                </a:solidFill>
                <a:latin typeface="Arial"/>
              </a:rPr>
              <a:t>Competition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-259920">
              <a:spcBef>
                <a:spcPts val="726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2"/>
                </a:solidFill>
                <a:latin typeface="Arial"/>
              </a:rPr>
              <a:t>students use SAT to win scholarships </a:t>
            </a:r>
            <a:endParaRPr b="0" lang="en-US" sz="29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-259920">
              <a:spcBef>
                <a:spcPts val="726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2"/>
                </a:solidFill>
                <a:latin typeface="Arial"/>
              </a:rPr>
              <a:t>National Merit Scholarships (&gt;$26M/year)</a:t>
            </a:r>
            <a:endParaRPr b="0" lang="en-US" sz="29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ne and Attitud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se questions typically just have the words in the question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12949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r some very small animals, survival means existing in a state that conventional biology defines as death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ich of the following is the primary concern of the author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A) redefining the significance of death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B) giving specific examples of animals that do not die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) calling into question traditional definitions of death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D) announcing the discovery of a new species of animal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E) attacking biology texts as erroneous and inadequate</a:t>
            </a:r>
            <a:br>
              <a:rPr sz="2400"/>
            </a:br>
            <a:endParaRPr b="0" lang="en-US" sz="2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95280" y="4572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e00"/>
                </a:solidFill>
                <a:latin typeface="Arial"/>
              </a:rPr>
              <a:t>Just The 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3 Strategies for Reading Long Passage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ead the passage then answer the questions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ead the passage paragraph by paragraph (Chunking)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Answer the questions associated with the paragraph (line refs)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ead each question (not the answers) and annotate the part of the passage associated with that question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8cc5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c540"/>
                </a:solidFill>
                <a:latin typeface="Arial"/>
              </a:rPr>
              <a:t>Use line number references. 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8cc5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c540"/>
                </a:solidFill>
                <a:latin typeface="Arial"/>
              </a:rPr>
              <a:t>Continue through the passage 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8cc5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c540"/>
                </a:solidFill>
                <a:latin typeface="Arial"/>
              </a:rPr>
              <a:t>Read the passage, focusing on annotated areas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52280" y="1295280"/>
            <a:ext cx="883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se are 3 different approaches to attacking the Critical Reading pass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udents can try each one and see which one works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Annotate The Passage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Use the line cues to show you where to focu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e00"/>
                </a:solidFill>
                <a:latin typeface="Arial"/>
              </a:rPr>
              <a:t>Read the question – NOT the answer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Circle or underline vocabulary word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Bracket lines &amp; include “notes” to remind you of what to focus on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Mark the line cue of the last question – there may be no need to read beyond that line!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Should Take About 3-4 Minut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Now Read the Passage and Answer the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Divide And Conquer </a:t>
            </a:r>
            <a:br>
              <a:rPr sz="3200"/>
            </a:br>
            <a:r>
              <a:rPr b="0" lang="en-US" sz="3200" spc="-1" strike="noStrike">
                <a:solidFill>
                  <a:srgbClr val="003a62"/>
                </a:solidFill>
                <a:latin typeface="Arial"/>
              </a:rPr>
              <a:t>Paired Passage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ost students will try to read both passages and then answer the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he second passage is what’s in short-term memory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he initial questions relate to the first passag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ivide And Conquer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Read Passage one, answer questions pertaining to the passage – use line number cue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Read Passage two, answer questions pertaining to the passage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nswer the compare and contrast type question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5791320"/>
            <a:ext cx="86868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When reading the Pa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use one of the three long passage read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Short Reading Passage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ingle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Read the passage, then answer the question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Paired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Use the divide and conquer strategy if possibl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Many of these questions are like analogie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c540"/>
                </a:solidFill>
                <a:latin typeface="Arial"/>
              </a:rPr>
              <a:t>SAT Math</a:t>
            </a:r>
            <a:endParaRPr b="0" lang="en-US" sz="60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19320" y="2438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t’s Not Just About Numb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Use Logic to Answer Math Question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62"/>
                </a:solidFill>
                <a:latin typeface="Arial"/>
              </a:rPr>
              <a:t>All problems are designed to be answered without a calculator. 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62"/>
                </a:solidFill>
                <a:latin typeface="Arial"/>
              </a:rPr>
              <a:t>This is a level 5 (hard) that can be answered with no calculations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 sock drawer contains 15 pairs of colored socks. There are 5 blue, 5 white, and 5 red pairs of socks. Without looking, what is the fewest number of pairs that can be taken from the drawer to ensure that there are at least 4 pairs are of the same color taken?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28600" y="624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here’s Only One Right Answer</a:t>
            </a:r>
            <a:br>
              <a:rPr sz="3200"/>
            </a:b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Learn to Eliminate the Wrong Ones Using Basic Math Fact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f abc &lt; 0, which of the following could be values for a, b and c, respectively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0, 3, 5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1, 2, 3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5, -3, -7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-2, 5, -6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-2, -3, -4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Words Matter on the SAT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19320" y="1371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(2-x)(y-2) = 0, Which of the following can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143000" y="2057400"/>
            <a:ext cx="68580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and I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, II, and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733920" y="6248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9343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c540"/>
                </a:solidFill>
                <a:latin typeface="Arial"/>
              </a:rPr>
              <a:t>SAT Format</a:t>
            </a:r>
            <a:endParaRPr b="0" lang="en-US" sz="40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54" name="Picture 3" descr="HS5ClipImage_41e53da1"/>
          <p:cNvPicPr/>
          <p:nvPr/>
        </p:nvPicPr>
        <p:blipFill>
          <a:blip r:embed="rId1"/>
          <a:stretch/>
        </p:blipFill>
        <p:spPr>
          <a:xfrm>
            <a:off x="1359000" y="1033560"/>
            <a:ext cx="752472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Words Matter on the SAT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143000" y="2057400"/>
            <a:ext cx="68580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and I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, II, and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143000" y="1447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(2-x)(y-2) = 0, Which of the following must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657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Grid-In Math Ques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Grid in the following numbers: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1. 28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2.  4 ½ 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        3.  0.562            4.  0.88889   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 5.  x such that 3&lt;x&lt;4</a:t>
            </a:r>
            <a:endParaRPr b="0" lang="en-US" sz="16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457200" y="2486160"/>
          <a:ext cx="95076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86160"/>
                    <a:ext cx="9507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6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2209680" y="2514600"/>
            <a:ext cx="951120" cy="2543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"/>
          <p:cNvPicPr/>
          <p:nvPr/>
        </p:nvPicPr>
        <p:blipFill>
          <a:blip r:embed="rId4"/>
          <a:stretch/>
        </p:blipFill>
        <p:spPr>
          <a:xfrm>
            <a:off x="3733920" y="2514600"/>
            <a:ext cx="950760" cy="254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950760" cy="254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6"/>
          <a:stretch/>
        </p:blipFill>
        <p:spPr>
          <a:xfrm>
            <a:off x="7086600" y="2514600"/>
            <a:ext cx="95076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he Answer is There  </a:t>
            </a:r>
            <a:br>
              <a:rPr sz="3200"/>
            </a:b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Use The </a:t>
            </a:r>
            <a:r>
              <a:rPr b="0" lang="en-US" sz="3200" spc="-1" strike="noStrike" u="sng">
                <a:solidFill>
                  <a:srgbClr val="8cc540"/>
                </a:solidFill>
                <a:uFillTx/>
                <a:latin typeface="Arial"/>
              </a:rPr>
              <a:t>Backsolving</a:t>
            </a: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 Strategy To Find It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095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The sum of 3 consecutive even integers is 120.  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What is the largest integer?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36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38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40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42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44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6172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514600" y="2590920"/>
            <a:ext cx="64008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answer choices to solve the problem or set up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start with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C) isn’t the right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(C) was too large or too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oo small – Eliminate (A), (B) and (C) and then try (D). If (D) isn’t the answer, (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oo large - Eliminate (C), (D) and (E) and then try (B). If (B) isn’t the answer, (A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ry Plugging In Number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0" y="3227400"/>
                <a:ext cx="495360" cy="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281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049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048120" y="2209680"/>
            <a:ext cx="58672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125"/>
              </a:spcBef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 number that can easily “plug i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 aware of  constraints (x&g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percentage problems start with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in the number(s) you chose into the problem and solve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in the number(s) to each answer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only one answer choice matches the problem-that’s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more than one (or no) answer choice matches the problem – plug in anoth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190440" y="1295280"/>
                <a:ext cx="46785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then 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 equals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12"/>
          <p:cNvSpPr/>
          <p:nvPr/>
        </p:nvSpPr>
        <p:spPr>
          <a:xfrm>
            <a:off x="304920" y="1828800"/>
            <a:ext cx="1447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Solve For The Answer</a:t>
            </a:r>
            <a:br>
              <a:rPr sz="3200"/>
            </a:b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Not the Variable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1117440" y="1714680"/>
                <a:ext cx="5230800" cy="77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09480" y="6095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533520" y="2590920"/>
                <a:ext cx="5790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at is the value of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Geometry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8915400" cy="1782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81080" y="990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is the area of the square ABC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28600" y="6324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505320" y="3809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not drawn to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838080" y="2286000"/>
            <a:ext cx="99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44769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Word Problem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A brother and sister leave their house together on bikes.  The brother rides his bike at an average rate of 3 miles per hour and the sister rides an average of 7 miles an hour.  How far apart are they after 6 hours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A)  18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B)  24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C)  42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D)  60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E)  80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04920" y="6248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Interpreting Graphs and Func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2590920" y="1116000"/>
          <a:ext cx="23763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16000"/>
                    <a:ext cx="23763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4"/>
          <p:cNvGrpSpPr/>
          <p:nvPr/>
        </p:nvGrpSpPr>
        <p:grpSpPr>
          <a:xfrm>
            <a:off x="304920" y="3352680"/>
            <a:ext cx="8839080" cy="2837520"/>
            <a:chOff x="304920" y="3352680"/>
            <a:chExt cx="8839080" cy="2837520"/>
          </a:xfrm>
        </p:grpSpPr>
        <mc:AlternateContent>
          <mc:Choice xmlns:a14="http://schemas.microsoft.com/office/drawing/2010/main" Requires="a14">
            <p:sp>
              <p:nvSpPr>
                <p:cNvPr id="206" name="Object 3"/>
                <p:cNvSpPr txBox="1"/>
                <p:nvPr/>
              </p:nvSpPr>
              <p:spPr>
                <a:xfrm>
                  <a:off x="838080" y="5197320"/>
                  <a:ext cx="12826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Object 4"/>
                <p:cNvSpPr txBox="1"/>
                <p:nvPr/>
              </p:nvSpPr>
              <p:spPr>
                <a:xfrm>
                  <a:off x="858960" y="4304880"/>
                  <a:ext cx="114300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Text Box 7"/>
            <p:cNvSpPr/>
            <p:nvPr/>
          </p:nvSpPr>
          <p:spPr>
            <a:xfrm>
              <a:off x="304920" y="3352680"/>
              <a:ext cx="8839080" cy="28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What is the equation that describes the parabola drawn in the figure abov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5"/>
                <p:cNvSpPr txBox="1"/>
                <p:nvPr/>
              </p:nvSpPr>
              <p:spPr>
                <a:xfrm>
                  <a:off x="838080" y="4724280"/>
                  <a:ext cx="111780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6"/>
                <p:cNvSpPr txBox="1"/>
                <p:nvPr/>
              </p:nvSpPr>
              <p:spPr>
                <a:xfrm>
                  <a:off x="838080" y="3825720"/>
                  <a:ext cx="121932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7"/>
                <p:cNvSpPr txBox="1"/>
                <p:nvPr/>
              </p:nvSpPr>
              <p:spPr>
                <a:xfrm>
                  <a:off x="762120" y="5654520"/>
                  <a:ext cx="135720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2" name="Text Box 11"/>
          <p:cNvSpPr/>
          <p:nvPr/>
        </p:nvSpPr>
        <p:spPr>
          <a:xfrm>
            <a:off x="457200" y="6400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Special Functions</a:t>
            </a:r>
            <a:br>
              <a:rPr sz="3200"/>
            </a:br>
            <a:r>
              <a:rPr b="0" i="1" lang="en-US" sz="2400" spc="-1" strike="noStrike">
                <a:solidFill>
                  <a:srgbClr val="8cc540"/>
                </a:solidFill>
                <a:latin typeface="Arial"/>
              </a:rPr>
              <a:t>AKA Math Problems Kids Have Never Seen!</a:t>
            </a:r>
            <a:endParaRPr b="0" lang="en-US" sz="24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181480" cy="3832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60948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Educated Guessing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182880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150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3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-27 an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3, what is the valu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9200" y="274680"/>
            <a:ext cx="70772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c540"/>
                </a:solidFill>
                <a:latin typeface="Arial"/>
              </a:rPr>
              <a:t>What is your score goal?</a:t>
            </a:r>
            <a:br>
              <a:rPr sz="40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You Don’t Need to Answer Every Question</a:t>
            </a:r>
            <a:endParaRPr b="0" lang="en-US" sz="24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56" name="Picture 3" descr="HS5ClipImage_41e53e18"/>
          <p:cNvPicPr/>
          <p:nvPr/>
        </p:nvPicPr>
        <p:blipFill>
          <a:blip r:embed="rId1"/>
          <a:stretch/>
        </p:blipFill>
        <p:spPr>
          <a:xfrm>
            <a:off x="774720" y="1600200"/>
            <a:ext cx="7785000" cy="3665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74720" y="5402160"/>
            <a:ext cx="7912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need to know the score you want and what it takes to achieve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ke sure you don’t skip too many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a62"/>
                </a:solidFill>
                <a:latin typeface="Arial"/>
              </a:rPr>
              <a:t>SAT </a:t>
            </a:r>
            <a:endParaRPr b="0" lang="en-US" sz="4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a62"/>
                </a:solidFill>
                <a:latin typeface="Arial"/>
              </a:rPr>
              <a:t>Writing Section</a:t>
            </a:r>
            <a:endParaRPr b="0" lang="en-US" sz="4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Key Points to the Essay Rubric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Have a point of view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Don’t be “wishy-washy”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Support your point of view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Use appropriate examples</a:t>
            </a: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Personal experience or observations (Personal Essay)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Literature or classroom studies (Academic Essay)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Have a conclusion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Be organized -</a:t>
            </a: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Stay on topic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Vocabulary - </a:t>
            </a: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Use apt vocabulary, not “50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¢” word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Sentence Structure – Use varied sentence structur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Most students write in short, declarative sentences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Grammar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Essay doesn’t have to be error free but serious errors, such as punctuation, verb tense and subject/verb agreement, will be penalized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To Approach The Essay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Essay consists of two component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prompt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 boxed excerpt or quot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Designed to stimulate thoughts on the subjec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Problem: it can confuse you or slant you to write about the prompt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Solution: skip the prompt if at all possible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assignment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his is the “money” componen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t asks the student a question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underline the question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his is the question </a:t>
            </a:r>
            <a:r>
              <a:rPr b="0" lang="en-US" sz="2400" spc="-1" strike="noStrike" u="sng">
                <a:solidFill>
                  <a:srgbClr val="003a62"/>
                </a:solidFill>
                <a:uFillTx/>
                <a:latin typeface="Arial"/>
              </a:rPr>
              <a:t>you must answer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in your essay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wo Minutes, Two Decis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25 minutes is not very long to write an essay so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time management is critical.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Decision One – Agree or Disagree?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Decide your point of view on the subject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If you have a strong opinion – GREAT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No point of view – get one and stick to it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There is no right or wrong point of view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Decision Two – Academic or Personal Essay?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What example will support the point of view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Students know themselves – shoot for the personal essay first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00"/>
                </a:solidFill>
                <a:latin typeface="Arial"/>
              </a:rPr>
              <a:t>School, home, sports, boyfriend/girlfriend, volunteer work</a:t>
            </a:r>
            <a:endParaRPr b="0" lang="en-US" sz="16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Academic essays can be history, literature, or current events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e00"/>
                </a:solidFill>
                <a:uFillTx/>
                <a:latin typeface="Arial"/>
              </a:rPr>
              <a:t>Only one example is needed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00"/>
                </a:solidFill>
                <a:latin typeface="Arial"/>
              </a:rPr>
              <a:t>One is hard enough – multiple examples make for difficult transitions</a:t>
            </a:r>
            <a:endParaRPr b="0" lang="en-US" sz="16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Jot down thoughts in the test booklet to make a rough outline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ips On Writing a High-Scoring Essay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tart with a quot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It gets you writing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Can grab the reader’s attention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9e00"/>
                </a:solidFill>
                <a:latin typeface="Arial"/>
              </a:rPr>
              <a:t>Well, what do you want to do now?” Joey demanded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Use one, well supported exampl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Easier to fully develop a single exampl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Use internal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Helps to show insigh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9e00"/>
                </a:solidFill>
                <a:latin typeface="Arial"/>
              </a:rPr>
              <a:t>Should I stay or run?” I asked myself. I vacillated because if I stayed I’d get in trouble but if I ran everybody would call me a coward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ips On Writing a High-Scoring Essay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Vary Sentence Structur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Use parallel structure followed by a short, punchy sentence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Even though I knew I’d get caught, even though I knew I’d get suspended, my friend needed my help. So I stayed.</a:t>
            </a: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lways have a conclusion to reinforce your point of view and show insight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In conclusion …”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O!!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What did you learn? This shows insight.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This shows that it is…, I learned that…”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We did get caught and I was suspended for a week. However, Joey was safely at his mother’s. This taught me that sometimes you do need to sacrifice your own goals for the benefit of others.”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Multiple-Choice Writing Ques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a62"/>
                </a:solidFill>
                <a:uFillTx/>
                <a:latin typeface="Arial"/>
              </a:rPr>
              <a:t>3 types of questions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dentifying Sentence Error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mproving Sentenc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mproving Paragraph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Unfortunately, there is no “magic trick”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9e00"/>
                </a:solidFill>
                <a:latin typeface="Arial"/>
              </a:rPr>
              <a:t>Students need to be familiar with the rules of grammar, usage, and mechanics.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cc540"/>
                </a:solidFill>
                <a:latin typeface="Arial"/>
              </a:rPr>
              <a:t>Typical </a:t>
            </a:r>
            <a:br>
              <a:rPr sz="2600"/>
            </a:br>
            <a:r>
              <a:rPr b="0" lang="en-US" sz="2600" spc="-1" strike="noStrike">
                <a:solidFill>
                  <a:srgbClr val="8cc540"/>
                </a:solidFill>
                <a:latin typeface="Arial"/>
              </a:rPr>
              <a:t>Identifying Sentence Errors/Improving Sentences Grammar, Usage, and Mechanics Rules</a:t>
            </a:r>
            <a:endParaRPr b="0" lang="en-US" sz="2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Subject-verb agreemen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Pronoun usag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Comma splice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ncomplete (faulty) comparison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Fragment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Dangling participle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diom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Passive voic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Parallelism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wkward construction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Identifying Sentence Errors 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685800" y="2438280"/>
            <a:ext cx="7086600" cy="1313640"/>
            <a:chOff x="685800" y="2438280"/>
            <a:chExt cx="7086600" cy="1313640"/>
          </a:xfrm>
        </p:grpSpPr>
        <p:sp>
          <p:nvSpPr>
            <p:cNvPr id="237" name="Text Box 12"/>
            <p:cNvSpPr/>
            <p:nvPr/>
          </p:nvSpPr>
          <p:spPr>
            <a:xfrm>
              <a:off x="685800" y="2438280"/>
              <a:ext cx="7086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hopping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alls were designed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o attra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eopl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ic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 not lik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lking from store to stor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clement weather.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 error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3773520" y="3311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6651720" y="3311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6132240" y="271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573440" y="2684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1430280" y="2720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8"/>
          <p:cNvSpPr/>
          <p:nvPr/>
        </p:nvSpPr>
        <p:spPr>
          <a:xfrm>
            <a:off x="380880" y="1676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: If the sentence contains an error, select the underlined part that is incorrect. If there is no error, select choice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304920" y="464832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orrect answer is (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lanation: Use the pronouns who or whom when referring to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304920" y="3809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te: For Identifying Sentence Errors, answer (E) is always the “no error” 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Improving Sentence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447920"/>
            <a:ext cx="84582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chool students often study Patrick Henry’s Speech to the Virginia Convention for his adept use of persuasi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eals and he mastered rhetorical de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he urged his fellow colonists to stand up to Great Brit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ppeals and he mastered rhetor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appeals, and he mastered rhetor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appeals because as only he could he mastered rhetor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appeals while he mastered rhetor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ppeals and his mastery of rhetorical de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04920" y="524196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swer: The correct answer is (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xplanation: The underlined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preceded by “his adept use of persuasive appeals” (a noun clause) and it must be followed by the same grammatical construction, his mastery of rhetorical de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28600" y="4419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te: For Improving Sentences, answer (A) is always the “no change”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8120" y="304920"/>
            <a:ext cx="652968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c540"/>
                </a:solidFill>
                <a:latin typeface="Arial Black"/>
              </a:rPr>
              <a:t>SAT Scoring System</a:t>
            </a:r>
            <a:br>
              <a:rPr sz="4000"/>
            </a:b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esigned to eliminate the benefits of random guessing</a:t>
            </a:r>
            <a:br>
              <a:rPr sz="4100"/>
            </a:br>
            <a:endParaRPr b="0" lang="en-US" sz="20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5880" y="1773000"/>
            <a:ext cx="8669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a62"/>
                </a:solidFill>
                <a:latin typeface="Arial"/>
              </a:rPr>
              <a:t>+1 point for every correct answer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a62"/>
                </a:solidFill>
                <a:latin typeface="Arial"/>
              </a:rPr>
              <a:t>   </a:t>
            </a:r>
            <a:r>
              <a:rPr b="0" i="1" lang="en-US" sz="2600" spc="-1" strike="noStrike">
                <a:solidFill>
                  <a:srgbClr val="8cc540"/>
                </a:solidFill>
                <a:latin typeface="Arial"/>
              </a:rPr>
              <a:t>0 points for every question not answered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a62"/>
                </a:solidFill>
                <a:latin typeface="Arial"/>
              </a:rPr>
              <a:t>- .25 point for every multiple choice question missed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a62"/>
                </a:solidFill>
                <a:latin typeface="Arial"/>
              </a:rPr>
              <a:t>   </a:t>
            </a:r>
            <a:r>
              <a:rPr b="0" i="1" lang="en-US" sz="2600" spc="-1" strike="noStrike">
                <a:solidFill>
                  <a:srgbClr val="8cc540"/>
                </a:solidFill>
                <a:latin typeface="Arial"/>
              </a:rPr>
              <a:t>0 points for a wrong grid-in math question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cc540"/>
                </a:solidFill>
                <a:latin typeface="Arial"/>
              </a:rPr>
              <a:t>Theoretically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cc540"/>
                </a:solidFill>
                <a:latin typeface="Arial"/>
              </a:rPr>
              <a:t>guessing on 5 questions will result in a net score of 0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cc540"/>
                </a:solidFill>
                <a:latin typeface="Arial"/>
              </a:rPr>
              <a:t>(1 - .25 -.25 -.25 -.25 = 0 )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Improving Paragraph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a62"/>
                </a:solidFill>
                <a:latin typeface="Arial"/>
              </a:rPr>
              <a:t>These are typically the most difficult type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2"/>
                </a:solidFill>
                <a:latin typeface="Arial"/>
              </a:rPr>
              <a:t>of questions for student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cc540"/>
                </a:solidFill>
                <a:uFillTx/>
                <a:latin typeface="Arial"/>
              </a:rPr>
              <a:t>Questions test your ability to: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Edit, combine and revise sentences within a paragraph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c540"/>
                </a:solidFill>
                <a:latin typeface="Arial"/>
              </a:rPr>
              <a:t>Improve the organization (flow) of a paragraph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dentify literary devices used by the author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c540"/>
                </a:solidFill>
                <a:latin typeface="Arial"/>
              </a:rPr>
              <a:t>Improve sentences or paragraphs using standard conventions of English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Eliminating passive voice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Clarity and precision of language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c54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2"/>
                </a:solidFill>
                <a:latin typeface="Arial"/>
              </a:rPr>
              <a:t>Triumph College Admissions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caprep.com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2"/>
                </a:solidFill>
                <a:latin typeface="Arial"/>
              </a:rPr>
              <a:t>800-836-8664 x 5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ustomercare@tcaprep.com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37880" y="215640"/>
            <a:ext cx="592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c540"/>
                </a:solidFill>
                <a:latin typeface="Arial"/>
              </a:rPr>
              <a:t>Order of Difficulty</a:t>
            </a:r>
            <a:endParaRPr b="0" lang="en-US" sz="4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95200" y="1483560"/>
            <a:ext cx="86295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AT ranks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asy, Medium, and Hard to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c540"/>
                </a:solidFill>
                <a:latin typeface="Arial"/>
              </a:rPr>
              <a:t>Questions generally start easy and then get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100000"/>
              </a:lnSpc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  <a:ea typeface="Arial"/>
              </a:rPr>
              <a:t>Except critical reading passage-based questions and Improving Paragraphs writing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y questions count as much as hard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90440" y="4979880"/>
            <a:ext cx="871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derstanding the order of difficul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n be a huge advantage if your goal is 600 or less in any se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cusing your time on the easy/medium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ives you more time per question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S5ClipImage_4231c862"/>
          <p:cNvPicPr/>
          <p:nvPr/>
        </p:nvPicPr>
        <p:blipFill>
          <a:blip r:embed="rId1"/>
          <a:stretch/>
        </p:blipFill>
        <p:spPr>
          <a:xfrm>
            <a:off x="360360" y="1917720"/>
            <a:ext cx="837720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28600" y="4191120"/>
            <a:ext cx="8458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vel of difficulty within question types go from easy to har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he exceptions are the passage-based critical reading and improving paragraphs writing questions where the difficulty level has no real patter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c540"/>
                </a:solidFill>
                <a:latin typeface="Arial"/>
              </a:rPr>
              <a:t>Order of Difficulty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roximate distribution of question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c540"/>
                </a:solidFill>
                <a:latin typeface="Arial"/>
              </a:rPr>
              <a:t>3 Simple Rules </a:t>
            </a:r>
            <a:br>
              <a:rPr sz="4000"/>
            </a:br>
            <a:r>
              <a:rPr b="1" lang="en-US" sz="4000" spc="-1" strike="noStrike">
                <a:solidFill>
                  <a:srgbClr val="8cc540"/>
                </a:solidFill>
                <a:latin typeface="Arial"/>
              </a:rPr>
              <a:t>For Guessing on the SAT</a:t>
            </a:r>
            <a:endParaRPr b="0" lang="en-US" sz="40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67" name="Picture 3" descr="MCTN00683_0000[1]"/>
          <p:cNvPicPr/>
          <p:nvPr/>
        </p:nvPicPr>
        <p:blipFill>
          <a:blip r:embed="rId1"/>
          <a:stretch/>
        </p:blipFill>
        <p:spPr>
          <a:xfrm>
            <a:off x="609480" y="1600200"/>
            <a:ext cx="221940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971800" y="4610160"/>
            <a:ext cx="5638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you have no clue how to answer the question, then definitely skip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00400" y="3352680"/>
            <a:ext cx="4952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f10f"/>
                </a:solidFill>
                <a:latin typeface="Arial"/>
              </a:rPr>
              <a:t>If you can eliminate only one or two wrong answers, think twice before gu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971800" y="2057400"/>
            <a:ext cx="48006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f you can eliminate three wrong answers, then definitely gu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451240" y="5969160"/>
            <a:ext cx="58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SAT scoring system is set up to eliminate benefits of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andom gu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20:41:38Z</dcterms:created>
  <dc:creator>brucek</dc:creator>
  <dc:description/>
  <dc:language>en-US</dc:language>
  <cp:lastModifiedBy>Tourret, Dibrelle</cp:lastModifiedBy>
  <dcterms:modified xsi:type="dcterms:W3CDTF">2011-10-24T17:05:05Z</dcterms:modified>
  <cp:revision>42</cp:revision>
  <dc:subject/>
  <dc:title>Agenda</dc:title>
</cp:coreProperties>
</file>